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523-8CBC-471A-B79E-DCFA71F1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6FB8-727C-48D5-B8F9-4E2C34E2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63D-C643-4FFC-8538-9DF89FB2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0BB-9312-40E4-92DA-B45869B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7E-0065-4ACE-AA71-B7E6F6CA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6A2-BE46-4880-BD55-C3548989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C65-0A54-4E8C-AC46-88A4CD5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108-DC09-40A4-AFC2-87653D9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972-5BFD-4C1E-A087-880E7FF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B1A-B1F9-4C20-9EF3-2A3B334A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C62-88D4-4B7A-9BFE-D50B0476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3E-5CCB-4CE6-8065-64A5772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031-EA10-41ED-9262-97ACEB2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A3D-BDC8-427A-B536-DC6F0E7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9F7-B37C-4475-BD96-71D1FC036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yssa 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,y Buenos dias, Mi nombre es Alyssa. Yo vivo en New York. Yo tengo catorce años. Yo tengo una hermanas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1-30T14:58:44Z</dcterms:modified>
  <cp:revision>102</cp:revision>
  <dc:subject/>
  <dc:title>Profile</dc:title>
</cp:coreProperties>
</file>